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A4D9-8ADC-420C-A825-DD5796FCC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C6A5-26C1-43EC-890D-D76303FC5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238A-4D10-46B8-8FA3-9E2750FE9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8DAD-D9E9-4535-AF99-078C10D3B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0F8F-3FBA-47AB-99A3-36928648C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FDA6-BF2E-4E2B-ABBF-8CEC996DD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9FBA-5CA4-4127-8C03-EFD4F4365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4A56-32D1-423F-B3B3-A25256F10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8E7F-6046-4EFE-BE88-700A6810A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A142-C2AE-46E2-895C-1DACA293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D22C-75AD-441C-8600-72C02F38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6916-E79C-4792-88DA-05AB59A4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57AEE-2104-4D1B-9BD5-B51E271FCCD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ff"/>
                </a:solidFill>
                <a:latin typeface="Times New Roman"/>
              </a:rPr>
              <a:t>ATAA equibiaxial (inflation) tes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43" name="Obrázek 2" descr=""/>
          <p:cNvPicPr/>
          <p:nvPr/>
        </p:nvPicPr>
        <p:blipFill>
          <a:blip r:embed="rId1"/>
          <a:srcRect l="0" t="0" r="36574" b="0"/>
          <a:stretch/>
        </p:blipFill>
        <p:spPr>
          <a:xfrm>
            <a:off x="971640" y="1049400"/>
            <a:ext cx="7831080" cy="3076560"/>
          </a:xfrm>
          <a:prstGeom prst="rect">
            <a:avLst/>
          </a:prstGeom>
          <a:ln w="0">
            <a:noFill/>
          </a:ln>
        </p:spPr>
      </p:pic>
      <p:pic>
        <p:nvPicPr>
          <p:cNvPr id="44" name="Obrázek 10" descr=""/>
          <p:cNvPicPr/>
          <p:nvPr/>
        </p:nvPicPr>
        <p:blipFill>
          <a:blip r:embed="rId2"/>
          <a:srcRect l="63353" t="0" r="0" b="0"/>
          <a:stretch/>
        </p:blipFill>
        <p:spPr>
          <a:xfrm>
            <a:off x="4356000" y="3959280"/>
            <a:ext cx="4202280" cy="2857320"/>
          </a:xfrm>
          <a:prstGeom prst="rect">
            <a:avLst/>
          </a:prstGeom>
          <a:ln w="0">
            <a:noFill/>
          </a:ln>
        </p:spPr>
      </p:pic>
      <p:sp>
        <p:nvSpPr>
          <p:cNvPr id="45" name="TextovéPole 4"/>
          <p:cNvSpPr/>
          <p:nvPr/>
        </p:nvSpPr>
        <p:spPr>
          <a:xfrm>
            <a:off x="457200" y="4581360"/>
            <a:ext cx="3467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Inflation tests similar to those with rubber carried out with specimens of Ascending Thoracic Aortic Aneurysm.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From: Avril et al. JBM, 2014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06:35:38Z</dcterms:created>
  <dc:creator>Ing. Jiří Burša</dc:creator>
  <dc:description/>
  <dc:language>en-US</dc:language>
  <cp:lastModifiedBy>bursa</cp:lastModifiedBy>
  <dcterms:modified xsi:type="dcterms:W3CDTF">2022-07-29T12:51:31Z</dcterms:modified>
  <cp:revision>368</cp:revision>
  <dc:subject/>
  <dc:title>Biomechanics  of smooth muscle cells</dc:title>
</cp:coreProperties>
</file>