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013B-B6C4-478C-8FEC-0256E382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EBF4-C603-4E72-B246-E22060C2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8FB6-D6A1-41AD-9D73-B1D98B4A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D5A-CE62-473C-B4E4-F40DD774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4484-3E36-49A2-99C8-916A523D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6E71-E8E4-4B7A-B299-FB3C98E8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804D-4D59-4ABF-B993-15EE4B41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57FC-D749-472F-B4D7-C1B258C9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3D3E-DF42-42F8-9D0F-DEF232FF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D06C-3F4F-486C-9269-E14FF4EE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D015-BDC2-4F88-8E07-8D870962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4EE9-912D-44A1-8DA6-F5F892EF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24F3-96D6-42C4-8F94-C0FA0557A89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onst-models_isotropic-orthotropic.pptx" TargetMode="External"/><Relationship Id="rId2" Type="http://schemas.openxmlformats.org/officeDocument/2006/relationships/hyperlink" Target="file:///Const-models_isotropic-orthotropic.pptx" TargetMode="External"/><Relationship Id="rId3" Type="http://schemas.openxmlformats.org/officeDocument/2006/relationships/hyperlink" Target="file:///Const-models_anisotropic.ppt" TargetMode="External"/><Relationship Id="rId4" Type="http://schemas.openxmlformats.org/officeDocument/2006/relationships/hyperlink" Target="file:///Constitutive_models_active.ppt" TargetMode="External"/><Relationship Id="rId5" Type="http://schemas.openxmlformats.org/officeDocument/2006/relationships/hyperlink" Target="file:///Constitutive_models_active.ppt" TargetMode="External"/><Relationship Id="rId6" Type="http://schemas.openxmlformats.org/officeDocument/2006/relationships/hyperlink" Target="file:///Viscohyperelasticity.ppt" TargetMode="External"/><Relationship Id="rId7" Type="http://schemas.openxmlformats.org/officeDocument/2006/relationships/hyperlink" Target="file:///Krev-modely.pptx" TargetMode="External"/><Relationship Id="rId8" Type="http://schemas.openxmlformats.org/officeDocument/2006/relationships/hyperlink" Target="file:///Krev-modely.pptx" TargetMode="External"/><Relationship Id="rId9" Type="http://schemas.openxmlformats.org/officeDocument/2006/relationships/hyperlink" Target="file:///Poroelasticity.ppt" TargetMode="External"/><Relationship Id="rId10" Type="http://schemas.openxmlformats.org/officeDocument/2006/relationships/hyperlink" Target="file:///Hydrogels.ppt" TargetMode="External"/><Relationship Id="rId11" Type="http://schemas.openxmlformats.org/officeDocument/2006/relationships/image" Target="../media/image1.wmf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onst-models_isotropic-orthotropic.pptx" TargetMode="External"/><Relationship Id="rId2" Type="http://schemas.openxmlformats.org/officeDocument/2006/relationships/hyperlink" Target="file:///Klosner-Segal.ppt" TargetMode="External"/><Relationship Id="rId3" Type="http://schemas.openxmlformats.org/officeDocument/2006/relationships/hyperlink" Target="file:///Yeoh.pptx" TargetMode="External"/><Relationship Id="rId4" Type="http://schemas.openxmlformats.org/officeDocument/2006/relationships/hyperlink" Target="file:///Const-models_isotropic-orthotropic.pptx" TargetMode="External"/><Relationship Id="rId5" Type="http://schemas.openxmlformats.org/officeDocument/2006/relationships/hyperlink" Target="file:///Constitutive_models_active.ppt" TargetMode="External"/><Relationship Id="rId6" Type="http://schemas.openxmlformats.org/officeDocument/2006/relationships/hyperlink" Target="file:///Anizotropni_modely.ppt" TargetMode="External"/><Relationship Id="rId7" Type="http://schemas.openxmlformats.org/officeDocument/2006/relationships/hyperlink" Target="file:///Const-models_anisotropic.ppt" TargetMode="External"/><Relationship Id="rId8" Type="http://schemas.openxmlformats.org/officeDocument/2006/relationships/hyperlink" Target="file:///Const-models_anisotropic.ppt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42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Constitutive models for arterial t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olid phas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yperelastic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pseudo-hyperelastic) – with respect to a pronounced strain stiffening of stress-strain curves of arteries, application of different models than for technical elastomers is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Isotropic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phenomenological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Orthotropic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mostly phenomeno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Anisotropic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structure based, considering arrangement of collagen fi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odels considering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active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 behaviour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f tissues (muscle tone or contr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scoelastic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linear viscoelastic are not applicable (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viscohyperelasticit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Liquid phas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dels (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models of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bloo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iphasic models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poroelasticit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porohyperelasticity,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hydrogel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Obrázek 4" descr=""/>
          <p:cNvPicPr/>
          <p:nvPr/>
        </p:nvPicPr>
        <p:blipFill>
          <a:blip r:embed="rId11"/>
          <a:stretch/>
        </p:blipFill>
        <p:spPr>
          <a:xfrm>
            <a:off x="4500720" y="290520"/>
            <a:ext cx="431928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912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 of hyperelastic models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for soft t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"/>
          <p:cNvSpPr/>
          <p:nvPr/>
        </p:nvSpPr>
        <p:spPr>
          <a:xfrm>
            <a:off x="900000" y="177120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Isotropic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-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Klosner-Segal _x000b_</a:t>
            </a:r>
            <a:r>
              <a:rPr b="0" lang="cs-CZ" sz="1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- Yeoh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- Demiray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4872600" y="1634760"/>
            <a:ext cx="3076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Orthotropic phenomenological</a:t>
            </a:r>
            <a:r>
              <a:rPr b="1" lang="cs-CZ" sz="1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:</a:t>
            </a:r>
            <a:br>
              <a:rPr sz="1800"/>
            </a:br>
            <a:r>
              <a:rPr b="0" lang="cs-CZ" sz="1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-   Fung </a:t>
            </a:r>
            <a:br>
              <a:rPr sz="1800"/>
            </a:br>
            <a:r>
              <a:rPr b="0" lang="cs-CZ" sz="1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-   Choi-Vito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-   Takamizawa-Hayashi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" name="Rectangle 1"/>
          <p:cNvSpPr/>
          <p:nvPr/>
        </p:nvSpPr>
        <p:spPr>
          <a:xfrm>
            <a:off x="4989240" y="3002400"/>
            <a:ext cx="3394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Active behaviour models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: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buClr>
                <a:srgbClr val="808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Rachev, Hayashi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buClr>
                <a:srgbClr val="808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Zulliger, Rachev, Stergiopulos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buClr>
                <a:srgbClr val="808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611280" y="3148920"/>
            <a:ext cx="316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Anisotropic structure based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: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-   Holzapfel, 2000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buClr>
                <a:srgbClr val="808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Holzapfel, 2005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buClr>
                <a:srgbClr val="808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Microfiber (Lanir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808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Gasser (2006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808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Martufi (2011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4950360" y="4224600"/>
            <a:ext cx="217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Poroelastic models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buClr>
                <a:srgbClr val="808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Darcy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’s law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buClr>
                <a:srgbClr val="808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Holmes-Mow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624600" y="5996520"/>
            <a:ext cx="57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s of mechanical testing of soft (arterial) tissues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bursa</cp:lastModifiedBy>
  <dcterms:modified xsi:type="dcterms:W3CDTF">2023-10-30T11:04:19Z</dcterms:modified>
  <cp:revision>456</cp:revision>
  <dc:subject/>
  <dc:title>Biomechanics  of smooth muscle cells </dc:title>
</cp:coreProperties>
</file>