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C8A-DE47-45A7-875D-CBCCAD18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D30-D3DE-4DA3-AE57-3E403718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C5E-EFA8-4BD0-8AD6-B83A981E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EAD-8B6B-4349-B61D-9599E279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539-4404-4F9C-B9F8-D7075DDA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FBF-B792-403C-8A88-11CE3B8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C40-6863-48BE-95C4-A8568729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9A9-09A9-46C8-91E4-175E353C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33F-8905-453F-908A-3A63032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888-40FF-4835-86C6-ED24C2B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F60-1781-41D8-8A42-881BBB8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E02-646A-422B-95D5-7992B75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F7B9-1AE1-46C7-B74D-E210276DC8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Constitutive models 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for large strain viscoelastic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hematical formulations of viscoelastic constitutive models under large strains are similar to hyperelastic formulations. However, the states of matter are typically out of thermodynamic equilibrium (non-equilibrium thermodynamics), thus Helmholtz free energy becomes the decisive quantity rather than the strain energy only. Its fomulation is:       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-TS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is  absolute temperature,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is entropy (both energies equal for elastic materials). This energy has a general formulation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where            is the volume component of Helmholtz free energy,          is its isochoric (deviatoric) component,       is deviatoric part of right Cauchy-Green deformation tensor, J is the 3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invariant of the deformation gradient tensor,          is the set of functions describing the irreversible part of the Helmholtz free energy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functions describing the time dependence of deformation. For the mathematical description, rheological models can be used similarly as in linear viscoelasticity. See the literature below for more detai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74760" y="5445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imo, J.C., "On fully three-dimensional finite strain viscoelastic damage model: Formulation and computational aspects", Comput. Meth. In Appl. Mech. Eng., Vol. 60, pp. 153-173 (1987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G.A. Holzapfel, "On large strain viscoelasticity: continuum formulation and finite element applications to elastomeric structures", Int. J. Numer. Meth. Eng., Vol. 39, pp. 3903-3926 (1996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9"/>
              <p:cNvSpPr txBox="1"/>
              <p:nvPr/>
            </p:nvSpPr>
            <p:spPr>
              <a:xfrm>
                <a:off x="4341960" y="2997360"/>
                <a:ext cx="33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11"/>
              <p:cNvSpPr txBox="1"/>
              <p:nvPr/>
            </p:nvSpPr>
            <p:spPr>
              <a:xfrm>
                <a:off x="1116000" y="3768840"/>
                <a:ext cx="4316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5"/>
              <p:cNvSpPr txBox="1"/>
              <p:nvPr/>
            </p:nvSpPr>
            <p:spPr>
              <a:xfrm>
                <a:off x="5869080" y="374976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8"/>
              <p:cNvSpPr txBox="1"/>
              <p:nvPr/>
            </p:nvSpPr>
            <p:spPr>
              <a:xfrm>
                <a:off x="2627280" y="3933720"/>
                <a:ext cx="20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1"/>
              <p:cNvSpPr txBox="1"/>
              <p:nvPr/>
            </p:nvSpPr>
            <p:spPr>
              <a:xfrm>
                <a:off x="4876920" y="4221000"/>
                <a:ext cx="271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23-11-06T12:01:24Z</dcterms:modified>
  <cp:revision>457</cp:revision>
  <dc:subject/>
  <dc:title>Biomechanics  of smooth muscle cells</dc:title>
</cp:coreProperties>
</file>