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93D-F719-41FA-9D70-B613A8AB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674-54C7-46BE-8ADF-46F478E6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56F-BDF1-47CE-82EE-A0FA7266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509-9172-4622-A464-3F020390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7E2-7316-4D51-865D-27DF3412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05A-438E-4ABE-870C-AC8FC422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0F8-4A31-42A8-B12E-BB1FA575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F6D-BAAA-4D9A-9D4A-478C1CD6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D41-933F-4DFF-9385-6AFC4EE0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367-E095-4925-85FE-6D171DCD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91B-8174-4BF5-9155-40CADADF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86E-BDCF-4278-B7D3-9CB3F42D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734B-B68D-4D2D-B140-8B4089CF4DB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Types of non-Newtonian liqu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826920" y="3933720"/>
            <a:ext cx="640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newtonské"/>
          <p:cNvPicPr/>
          <p:nvPr/>
        </p:nvPicPr>
        <p:blipFill>
          <a:blip r:embed="rId2"/>
          <a:srcRect l="8963" t="9352" r="6784" b="17051"/>
          <a:stretch/>
        </p:blipFill>
        <p:spPr>
          <a:xfrm>
            <a:off x="250920" y="1700280"/>
            <a:ext cx="5400720" cy="39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4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369720" y="1484280"/>
            <a:ext cx="457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τ </a:t>
            </a:r>
            <a:r>
              <a:rPr b="0" lang="cs-CZ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194440" y="5551560"/>
            <a:ext cx="31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210280" y="5572080"/>
            <a:ext cx="6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●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219640" y="1052640"/>
            <a:ext cx="3791160" cy="53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With time-independent properties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ingham plastics (mixtures – slurry, toothpaste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seudoplastic (influence of orientation of macromolecules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latant (e.g. mixture of water and sand,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n starch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ded in water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With time-dependent properties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xotropic (paints, viscosity dicreases with time of shear strain action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 a gradually increasing shear stress to maintain a constant strain rat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rheopectic (gypsum viscosity increases with time of shear strain action,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 a decreasing stress to maintain a constant strain rat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7"/>
              <p:cNvSpPr txBox="1"/>
              <p:nvPr/>
            </p:nvSpPr>
            <p:spPr>
              <a:xfrm>
                <a:off x="984240" y="907920"/>
                <a:ext cx="25797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limUpp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</m:e>
                      <m:lim>
                        <m:sSup>
                          <m:e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sup>
                        </m:sSup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53" name="Text Box 23"/>
          <p:cNvSpPr/>
          <p:nvPr/>
        </p:nvSpPr>
        <p:spPr>
          <a:xfrm>
            <a:off x="395280" y="5661000"/>
            <a:ext cx="6048360" cy="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ozn. :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wtonian liquid has the constants: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n = 1 and k is dynamic viscosity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non-Newtonian liquids, the ratio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is called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arent viscosity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Line 24"/>
          <p:cNvSpPr/>
          <p:nvPr/>
        </p:nvSpPr>
        <p:spPr>
          <a:xfrm flipV="1">
            <a:off x="1319040" y="4797360"/>
            <a:ext cx="5889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Line 25"/>
          <p:cNvSpPr/>
          <p:nvPr/>
        </p:nvSpPr>
        <p:spPr>
          <a:xfrm flipH="1">
            <a:off x="3924360" y="1501920"/>
            <a:ext cx="180000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Line 26"/>
          <p:cNvSpPr/>
          <p:nvPr/>
        </p:nvSpPr>
        <p:spPr>
          <a:xfrm flipH="1">
            <a:off x="3419640" y="1971720"/>
            <a:ext cx="2241360" cy="88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Line 27"/>
          <p:cNvSpPr/>
          <p:nvPr/>
        </p:nvSpPr>
        <p:spPr>
          <a:xfrm flipH="1">
            <a:off x="4642920" y="2490840"/>
            <a:ext cx="1033560" cy="180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3648240" y="6332400"/>
                <a:ext cx="20304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γ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21-11-07T17:52:45Z</dcterms:modified>
  <cp:revision>360</cp:revision>
  <dc:subject/>
  <dc:title>Biomechanics  of smooth muscle cells</dc:title>
</cp:coreProperties>
</file>