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D6D-942D-4C79-AF5E-85EE510B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AD5-0DC9-419D-B9F6-683B6270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E79-24E6-4C92-8A50-8D10E3F9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DCE-C8AA-4392-9595-32EB760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445-3CA7-400C-AA00-DF9C00C0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66E-9293-44D7-8BE5-0C4AE6BA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451-83B6-40F0-B33F-2E822606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72D-B9DB-4841-9AA5-DAB7AC0D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95B-C5CA-4973-8664-5DE97F9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477-1618-4D00-9268-1BF7C22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137-3F3D-4921-863C-FAD7DE9B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52E-BDE2-49E7-8597-862DEC2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B31-4F01-4BB4-857B-632920840C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Constitutive models considering the muscle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hese models decompose Cauchy stress tensor int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sive par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─ it is evaluated from the SEDF function under passive conditions (smooth muscle relaxed) and given mainly by the constitutive behaviour of elastin and collage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ctive par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─ expresses the contribution of smooth muscle exci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ctive part of stress is a function (in addition to deformation) of concentration of free calcium cations in smooth muscle cel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cifically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he active component of stress tensor in a smooth muscle is expressed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74760" y="6019920"/>
            <a:ext cx="822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achev A., Hayashi K.: Theoretical study of the effects of vascular smooth muscle contraction 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nd stress distributions in arteries.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Ann. Biomed. Eng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, Vol. 27, 1999, pp. 459-468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68360" y="386064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2080" indent="-352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nstant A ranges from 0 kPa (relaxed ─ passive state) up to 100 kPa (fully activated state), basal tone correponds to the value of  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50 kPa,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2080" indent="-35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 expresses the intracellular concentration of calcium ions,  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2080" indent="-35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are stretches under which the contractile force reaches its maximum and minimum value, respectively, while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is the actual tissue stretch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2080" indent="-35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is unit vector of the direction of the muscle fibres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484360" y="3224160"/>
                <a:ext cx="3784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153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Impact of active stress (muscle tone) </a:t>
            </a:r>
            <a:br>
              <a:rPr sz="3200"/>
            </a:b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n artery stiffn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41440" y="1052640"/>
            <a:ext cx="36702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heological mode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nsidering the active stress in the arte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C – contractile compon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C, PEC – elastic component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rcRect l="19306" t="20601" r="41090" b="65753"/>
          <a:stretch/>
        </p:blipFill>
        <p:spPr>
          <a:xfrm>
            <a:off x="541440" y="2494080"/>
            <a:ext cx="8124840" cy="3959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932360" y="162864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perposition of the passive and active stress component in artery wall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5587920"/>
            <a:ext cx="806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ulliger M.A., Rachev A., Stergiopulos N.: A constitutive formulation of arterial mechanics including vascular smooth muscle tone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m J Physiol Heart Circ Physiol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Vol. 287, 2004, pp. H1335-H1343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5280" y="2421000"/>
            <a:ext cx="83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portion of smooth muscle in the cross section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You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ulus of the smooth muscle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inner variable characterizing smooth muscle tone, having the values from 0 (muscles fully relaxed, i.e. passive) up to 1 (muscles in the state of their maximal contraction)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S variable can be function of concentration of vasoconstrictive agents in the tissue or of arterial wall deformation; it can also reflect the arterial wall remodelation as response to long-term changes in its loading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1197000"/>
            <a:ext cx="8362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authors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press the influence of activation of smooth muscle cells as follows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9"/>
              <p:cNvSpPr txBox="1"/>
              <p:nvPr/>
            </p:nvSpPr>
            <p:spPr>
              <a:xfrm>
                <a:off x="2168640" y="1785960"/>
                <a:ext cx="427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s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Rectangle 2"/>
          <p:cNvSpPr/>
          <p:nvPr/>
        </p:nvSpPr>
        <p:spPr>
          <a:xfrm>
            <a:off x="609480" y="42696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Constitutive models considering the muscle tone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mpact of muscle tone </a:t>
            </a:r>
            <a:br>
              <a:rPr sz="32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n stiffness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 of a canine caroti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ter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285920"/>
            <a:ext cx="3043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pendence between pressure in an artery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d its radiu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shed line –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axe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mooth muscle cells (papaverin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lid line –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cite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mooth muscle cells (noradrenalin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9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3635280" y="170028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812000" y="566100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23-10-24T10:00:43Z</dcterms:modified>
  <cp:revision>454</cp:revision>
  <dc:subject/>
  <dc:title>Biomechanics  of smooth muscle cells </dc:title>
</cp:coreProperties>
</file>