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D24-D69C-4864-9B9E-0215475D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C5A-AA49-4EF3-9DCE-32AE0EDA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435-C64F-4613-A82F-F8E04676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8A8-7079-4C0C-A957-B179871F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39D-153C-4A02-B3F5-13167C19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243-BBBF-4B4E-B172-F323FBE5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468-C079-457A-8D74-9BD5FA53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11E-715C-4C5F-8D11-B2336F3B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D0D-2066-40F9-9912-C05C8652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E79-C4D7-4C1B-B546-2674EB55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4EA-0172-4936-B72D-3F2D685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E56-E75B-411F-A2BA-5878FE49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26AB-9F4F-4EC0-BEBB-8DCD06D7B5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13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Anisotropic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tructure-based</a:t>
            </a: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 mode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137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ey are used to describe behaviour of fibre composites with elastomer matrix (mostly rubber) reinforced with fibers. Their basic version assumes uniform ditribution of up t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wo families of perfectly aligned fibres with zero bending stiffnes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In fact they assume an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finitesimal fibre diameter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d are applicable for any extracellular fibres, having typically negligible bending stiffn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dditional invariants of deformation gradient tensor are used to describe the contribution of fibres to the strain energy density. Invariants (or also „pseudo-invariants“) of the right Cauchy-Green deformation tensor C are mostly used and denoted with symbols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A modified form of the tensor, i.e. that limited to deviatoric part of deformation, is used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imilarly to isotropic elastomers, SEDF is decomposed into its volumetric part 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and deviatoric (isovolumic) part 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de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which can be further decomposed into the isotropic contribution of the matrix 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so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d anisotropic contribution of fibres 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niso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 the isotropic SEDF part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any suitable hyperelastic model can be used (neo-Hooke, Yeoh, ….), while for the pro anisotropic part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Times New Roman"/>
              </a:rPr>
              <a:t>anis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onential models  are introduced most frequently for soft biological tissues. A and B represent here the so called „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ructural tensor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“ defining directions of both fibre fami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16"/>
              <p:cNvSpPr txBox="1"/>
              <p:nvPr/>
            </p:nvSpPr>
            <p:spPr>
              <a:xfrm>
                <a:off x="826920" y="4076640"/>
                <a:ext cx="703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v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is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4868640"/>
            <a:ext cx="83534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e rings represent results of FE simulations of both tests with the model parameters obtained only from the uniaxial tension test of abdominal aorta (left) and with a very good prediction  of the equibiaxial test (righ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dictive capability of Martufi model*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8070" t="20351" r="3880" b="38211"/>
          <a:stretch/>
        </p:blipFill>
        <p:spPr>
          <a:xfrm>
            <a:off x="468360" y="1700280"/>
            <a:ext cx="8280360" cy="311796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5"/>
          <p:cNvSpPr/>
          <p:nvPr/>
        </p:nvSpPr>
        <p:spPr>
          <a:xfrm>
            <a:off x="179280" y="609300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ufi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asser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nstitutive model for vascular tissue that integrates fibril, fiber and continuum levels with application to the isotropic and passive properties of the infrarenal aorta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 Biomechanics 44 (2011) 2544–2550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339920" y="1413000"/>
            <a:ext cx="697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niaxial tension test  f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quibiaxial tension test prediction 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0000" y="188640"/>
            <a:ext cx="86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mitations and modifications GHO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0000" y="836640"/>
            <a:ext cx="8459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ere are two main limitations of all the presented structure-based mod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ithout histological data the structural bases of the models is l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istological analyses reveal a dominantly unidirectional (mostly circumferential) orientation of fibres with some dispersion; consequently the portion of fibres in the other (axial) principal direction is very low and cannot ensure any strain stiffe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 contrast, the difference between stress-strain response of the arterial tissue in circumferential and axial direction  is not so pronounced; typically some tens of percents. Thus the presented structure-based models cannot capture the real anisotropic responses of the tissue; there is no member in the SEDF function of GHO model enabling strain stiffening in the direction with less fibres (mostly axial). To overcome this limitation, a model with isotropic strain stiffening is needed. A suitable modification can be obtained with Yeoh model for the matrix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117440" y="4654440"/>
                <a:ext cx="70297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κ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3</m:t>
                                                </m:r>
                                                <m:r>
                                                  <m:t xml:space="preserve">κ</m:t>
                                                </m:r>
                                              </m:e>
                                            </m:d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4</m:t>
                                                </m:r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Rectangle 3"/>
          <p:cNvSpPr/>
          <p:nvPr/>
        </p:nvSpPr>
        <p:spPr>
          <a:xfrm>
            <a:off x="324000" y="6195960"/>
            <a:ext cx="856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**) Skácel, Burša: Numerical implementation of constitutive model for arterial layers with distributed collagen fibre orientations.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mputer methods in Biomechanics and Biomedical Engineering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, Vol. 18/8 (2015), pp. 816-828. 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24000" y="5630760"/>
            <a:ext cx="845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imilar modifications are feasible also with other combinations of models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8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Holzapfel-Ogden*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836640"/>
            <a:ext cx="8423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is model was formulated for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behaviour of 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heart muscle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issue. Three ortogonal directions are defined by vectors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direction of fibres),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second direction in the sheet plane) and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rmal to the sheet). In the strain energy density function they are includ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95280" y="2852640"/>
            <a:ext cx="8209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first (isotropic) member represents contribution of the matrix, the second represents passive fibres, the third one is the contribution of lateral in-plane connections among fibres and the fourth member represents coupling term associated with directions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a pronounced strain stiffening all the members are exponential. The coupling (shear) invariant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f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ed as follows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539640" y="1989000"/>
                <a:ext cx="79200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f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s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f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Rectangle 3"/>
          <p:cNvSpPr/>
          <p:nvPr/>
        </p:nvSpPr>
        <p:spPr>
          <a:xfrm>
            <a:off x="324000" y="6086520"/>
            <a:ext cx="8712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zapfel GA, Ogden RW. Constitutive modelling of passive myocardium: 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ly based framework for materia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. Philosophical Transaction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Royal Society A: Mathematical, Physical and Engineering Sciences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2009;367(1902):3445-75.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3003480" y="4579920"/>
                <a:ext cx="29908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f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⊗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f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Rectangle 7"/>
          <p:cNvSpPr/>
          <p:nvPr/>
        </p:nvSpPr>
        <p:spPr>
          <a:xfrm>
            <a:off x="360360" y="5067360"/>
            <a:ext cx="83962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efinition shows that the last (coupling) member may be non-zero only if the vectors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ot orthogonal, i.e. under shear deformation, which may be significant at heart muscle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13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HGO (Holzapfel et al. 2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t is an anisotropic exponential model proposed for soft biological (e.g. arterial) tissues reinforced wit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wo familie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of identical wavy fibres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 the (isotropic) matrix, neo-Hookean model is used in its volumetric and deviatoric parts, while the anisotropic SEDF part 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niz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changes with respect to the sign of the respective invariants; due to fibre waviness, they apply only if the fibres are under tension.  The mathematical formulation i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9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,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re material paramet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re (pseudo)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varia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f the righ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uchy-Gre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deformation tenso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are express squared stretches of both collagen fibre fami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=det(F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s the third invariant of deformation gradient tens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  <a:ea typeface="Calibri"/>
              </a:rPr>
              <a:t>*) Holzapfel, Gasser,Ogden: A new constitutive framework for arterial wall mechanics, Journal of Elasticity, 2000</a:t>
            </a:r>
            <a:r>
              <a:rPr b="1" lang="cs-CZ" sz="1000" spc="-1" strike="noStrike">
                <a:solidFill>
                  <a:srgbClr val="000000"/>
                </a:solidFill>
                <a:latin typeface="Calibri"/>
                <a:ea typeface="Calibri"/>
              </a:rPr>
              <a:t>.                             Originally formulated by           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  <a:ea typeface="Calibri"/>
              </a:rPr>
              <a:t>Lanir Y: A structural theory for the homogeneous biaxial stress-strain relationships in flat collagenous tissues. J Biomech 1979,Vol. 12, pp. 423-43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3840120" y="1122480"/>
                <a:ext cx="4548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2"/>
              <p:cNvSpPr txBox="1"/>
              <p:nvPr/>
            </p:nvSpPr>
            <p:spPr>
              <a:xfrm>
                <a:off x="971640" y="2637000"/>
                <a:ext cx="37479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6891480" y="2997360"/>
                <a:ext cx="9936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1979640" y="3429000"/>
                <a:ext cx="266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8"/>
              <p:cNvSpPr txBox="1"/>
              <p:nvPr/>
            </p:nvSpPr>
            <p:spPr>
              <a:xfrm>
                <a:off x="6912000" y="3500280"/>
                <a:ext cx="11160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0"/>
              <p:cNvSpPr txBox="1"/>
              <p:nvPr/>
            </p:nvSpPr>
            <p:spPr>
              <a:xfrm>
                <a:off x="6877080" y="3998880"/>
                <a:ext cx="1224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2"/>
              <p:cNvSpPr txBox="1"/>
              <p:nvPr/>
            </p:nvSpPr>
            <p:spPr>
              <a:xfrm>
                <a:off x="6948360" y="4707000"/>
                <a:ext cx="1008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4"/>
              <p:cNvSpPr txBox="1"/>
              <p:nvPr/>
            </p:nvSpPr>
            <p:spPr>
              <a:xfrm>
                <a:off x="2673360" y="3933720"/>
                <a:ext cx="2690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6"/>
              <p:cNvSpPr txBox="1"/>
              <p:nvPr/>
            </p:nvSpPr>
            <p:spPr>
              <a:xfrm>
                <a:off x="4284720" y="4651200"/>
                <a:ext cx="1476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Obdélník 20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922320" y="5300640"/>
                <a:ext cx="6969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8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GOH (Gasser et al. 200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360" y="836640"/>
            <a:ext cx="8423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is model is the first one of the so called microfibre models. They are based on dispersion of directions of collagen fibres*) and spherical integration of contributions of individual fibres to the SEDF. It represents an extension of Holzapfel model with a dispersion parameter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≤κ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aracterizing the dispersion of directions of collagen fibres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wo families of fibre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re also considered her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3" name="Picture 12" descr="Pure_shear"/>
          <p:cNvPicPr/>
          <p:nvPr/>
        </p:nvPicPr>
        <p:blipFill>
          <a:blip r:embed="rId1"/>
          <a:srcRect l="59626" t="15997" r="4608" b="0"/>
          <a:stretch/>
        </p:blipFill>
        <p:spPr>
          <a:xfrm>
            <a:off x="6084720" y="2276640"/>
            <a:ext cx="2664000" cy="3730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468360" y="3213000"/>
            <a:ext cx="5688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e model gives good results for fibres with a not very high dispersion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 → 0), while for high fibre dispersion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 → 1/3) the error increases significantly. The reason is in the applied simplified spherical integration of contributions of the individual fibres to the strain energy assuming the same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d consequently the sam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fibres in a family. To obtain more accurate results, it is necessary to consider individual fibre directions (and their individual stretch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which results in computational times higher by orde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**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457200" y="2349360"/>
                <a:ext cx="57182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κ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3</m:t>
                                                </m:r>
                                                <m:r>
                                                  <m:t xml:space="preserve">κ</m:t>
                                                </m:r>
                                              </m:e>
                                            </m:d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4</m:t>
                                                </m:r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Rectangle 3"/>
          <p:cNvSpPr/>
          <p:nvPr/>
        </p:nvSpPr>
        <p:spPr>
          <a:xfrm>
            <a:off x="324000" y="595008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asser TC, Ogden RW, Holzapfel GA. Hyperelastic modelling of arterial layers with distributed collagen fibre orientations.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J. R. Soc. Interfac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2006;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: 15-35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**) Skácel, Burša: Numerical implementation of constitutive model for arterial layers with distributed collagen fibre orientations.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mputer methods in Biomechanics and Biomedical Engineering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, Vol. 18/8 (2015), pp. 816-828. 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1134720"/>
            <a:ext cx="835344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 literature there are two mutually interconnected parameters characterising the directions of fibres: the relation between the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ispersio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parameter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picted in the figure; its mathematical formulation is rather compl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24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ameters of direction dispersion of fib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Skacel_Figure02"/>
          <p:cNvPicPr/>
          <p:nvPr/>
        </p:nvPicPr>
        <p:blipFill>
          <a:blip r:embed="rId1"/>
          <a:stretch/>
        </p:blipFill>
        <p:spPr>
          <a:xfrm>
            <a:off x="5076720" y="2082960"/>
            <a:ext cx="3527640" cy="3228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24000" y="6237360"/>
            <a:ext cx="8424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*) Skacel P., Bursa J.: Comparison of constitutive models of arterial layers with distributed collagen fibre orientations. Acta of Bioengineering and Biomechanics, Vol 16/3 (2014) pp. 47-58. 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6" name="Obdélník 2" descr=""/>
          <p:cNvPicPr/>
          <p:nvPr/>
        </p:nvPicPr>
        <p:blipFill>
          <a:blip r:embed="rId2"/>
          <a:stretch/>
        </p:blipFill>
        <p:spPr>
          <a:xfrm>
            <a:off x="480960" y="1987560"/>
            <a:ext cx="301140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Obdélník 3" descr=""/>
          <p:cNvPicPr/>
          <p:nvPr/>
        </p:nvPicPr>
        <p:blipFill>
          <a:blip r:embed="rId3"/>
          <a:stretch/>
        </p:blipFill>
        <p:spPr>
          <a:xfrm>
            <a:off x="396720" y="2676600"/>
            <a:ext cx="4394520" cy="95724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7" descr=""/>
          <p:cNvPicPr/>
          <p:nvPr/>
        </p:nvPicPr>
        <p:blipFill>
          <a:blip r:embed="rId4"/>
          <a:stretch/>
        </p:blipFill>
        <p:spPr>
          <a:xfrm>
            <a:off x="401760" y="3645000"/>
            <a:ext cx="4243320" cy="170820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7" descr=""/>
          <p:cNvPicPr/>
          <p:nvPr/>
        </p:nvPicPr>
        <p:blipFill>
          <a:blip r:embed="rId5"/>
          <a:stretch/>
        </p:blipFill>
        <p:spPr>
          <a:xfrm>
            <a:off x="396720" y="5157720"/>
            <a:ext cx="80647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480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tions between fibre waviness </a:t>
            </a:r>
            <a:br>
              <a:rPr sz="3200"/>
            </a:br>
            <a:r>
              <a:rPr b="0" lang="cs-CZ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their local and global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0680" y="1341360"/>
            <a:ext cx="5557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GOH model assumes two dispersed fibre families. Although they occur in histograms sometimes, this may be effect of collagen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ibre wavines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The artificial figure with sinusoidal fibres gives bimodal histogram of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ocal direction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while the GOH model requires the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lobal direction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see red arrows), which are approximately 45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0" name="Picture 12" descr="Pure_shear"/>
          <p:cNvPicPr/>
          <p:nvPr/>
        </p:nvPicPr>
        <p:blipFill>
          <a:blip r:embed="rId1"/>
          <a:srcRect l="65436" t="15997" r="7501" b="21076"/>
          <a:stretch/>
        </p:blipFill>
        <p:spPr>
          <a:xfrm>
            <a:off x="6588000" y="274680"/>
            <a:ext cx="2016360" cy="2793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rcRect l="0" t="33038" r="0" b="32905"/>
          <a:stretch/>
        </p:blipFill>
        <p:spPr>
          <a:xfrm>
            <a:off x="547560" y="3286080"/>
            <a:ext cx="8048880" cy="3311640"/>
          </a:xfrm>
          <a:prstGeom prst="rect">
            <a:avLst/>
          </a:prstGeom>
          <a:ln w="0">
            <a:noFill/>
          </a:ln>
        </p:spPr>
      </p:pic>
      <p:cxnSp>
        <p:nvCxnSpPr>
          <p:cNvPr id="112" name="Přímá spojovací šipka 48"/>
          <p:cNvCxnSpPr/>
          <p:nvPr/>
        </p:nvCxnSpPr>
        <p:spPr>
          <a:xfrm flipV="1">
            <a:off x="576000" y="3690720"/>
            <a:ext cx="1323000" cy="1467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3" name="Přímá spojovací šipka 48"/>
          <p:cNvCxnSpPr/>
          <p:nvPr/>
        </p:nvCxnSpPr>
        <p:spPr>
          <a:xfrm flipV="1">
            <a:off x="576360" y="3884400"/>
            <a:ext cx="2340360" cy="2574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4" name="Přímá spojovací šipka 48"/>
          <p:cNvCxnSpPr/>
          <p:nvPr/>
        </p:nvCxnSpPr>
        <p:spPr>
          <a:xfrm flipV="1">
            <a:off x="1476000" y="3507840"/>
            <a:ext cx="1467720" cy="187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5" name="Přímá spojovací šipka 48"/>
          <p:cNvCxnSpPr/>
          <p:nvPr/>
        </p:nvCxnSpPr>
        <p:spPr>
          <a:xfrm flipV="1">
            <a:off x="1692000" y="4903560"/>
            <a:ext cx="1377000" cy="1621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137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llagen fibre wav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361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imodal shape of histograms of collagen fibre directions may be rela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wo fibre fami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ne family of wavy fi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or wavy collagen fibres two types of measures are used in litera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ibre waviness 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- stretch at which the fibre becomes stra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raightness parameter P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Times New Roman"/>
              </a:rPr>
              <a:t>curv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epresents the curvilinear length of the fibre and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epresents the distance between its end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6" name="Obrázek 14" descr=""/>
          <p:cNvPicPr/>
          <p:nvPr/>
        </p:nvPicPr>
        <p:blipFill>
          <a:blip r:embed="rId1"/>
          <a:srcRect l="39693" t="22362" r="4740" b="6513"/>
          <a:stretch/>
        </p:blipFill>
        <p:spPr>
          <a:xfrm>
            <a:off x="4067280" y="1469880"/>
            <a:ext cx="5022720" cy="401796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5"/>
          <p:cNvSpPr/>
          <p:nvPr/>
        </p:nvSpPr>
        <p:spPr>
          <a:xfrm>
            <a:off x="395280" y="620856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*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. Rezakhanih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et al.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rimental investigation of collagen waviness and orientation in the arterial adventitia using confocal laser scanning microscop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iomech Model Mechanobiol (2012) 11:461–473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2987640" y="3357720"/>
                <a:ext cx="96372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rve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2987640" y="4292640"/>
                <a:ext cx="8985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rv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137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considering collagen fibre wav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e pronounced strain stiffening of arterial tissues is caused by succesive engagement of wavy collagen fibres in the load transmission. Model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Martuf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*) (microfibre) aims at consideration of this effect using a bilinear probability function, describing a distribution of limit stretches of individual fibres (in a Neo-Hookean matri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rcRect l="0" t="42190" r="10716" b="14516"/>
          <a:stretch/>
        </p:blipFill>
        <p:spPr>
          <a:xfrm>
            <a:off x="324000" y="2492280"/>
            <a:ext cx="3960720" cy="3460680"/>
          </a:xfrm>
          <a:prstGeom prst="rect">
            <a:avLst/>
          </a:prstGeom>
          <a:ln w="0">
            <a:noFill/>
          </a:ln>
        </p:spPr>
      </p:pic>
      <p:sp>
        <p:nvSpPr>
          <p:cNvPr id="141" name="Obdélník 15"/>
          <p:cNvSpPr/>
          <p:nvPr/>
        </p:nvSpPr>
        <p:spPr>
          <a:xfrm>
            <a:off x="179280" y="609300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ufi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asser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nstitutive model for vascular tissue that integrates fibril, fiber and continuum levels with application to the isotropic and passive properties of the infrarenal aorta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 Biomechanics 44 (2011) 2544–2550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42" name="Obrázek 16" descr="Výstřižek.PNG"/>
          <p:cNvPicPr/>
          <p:nvPr/>
        </p:nvPicPr>
        <p:blipFill>
          <a:blip r:embed="rId2"/>
          <a:stretch/>
        </p:blipFill>
        <p:spPr>
          <a:xfrm>
            <a:off x="4375080" y="2492280"/>
            <a:ext cx="46609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e model introduces so called Cumulative Density Function (CDF – derivative of the probability density function of fibres). Under condition of incompressibility, the relation for first Piola-Kirchhoff stress T i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e applied triangular distribution function enables us to integrate per individual parts; in this way we obtain formulas for the first Piola-Kirchhoff stress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9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;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e total contribution of fibres is then obtained by a spherical integration taking the distribution of directions of all collagen fibres into consid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4859280" y="1628640"/>
                <a:ext cx="22636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λ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D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1260360" y="3040200"/>
                <a:ext cx="1008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842080" y="2997360"/>
                <a:ext cx="1466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λ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1284120" y="3357720"/>
                <a:ext cx="24242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416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Martufi ─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1320840" y="3933720"/>
                <a:ext cx="3106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λ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1308240" y="4870440"/>
                <a:ext cx="1608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5818320" y="3429000"/>
                <a:ext cx="149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λ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5938920" y="4076640"/>
                <a:ext cx="1441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&lt;</m:t>
                    </m:r>
                    <m:r>
                      <m:t xml:space="preserve">λ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5940360" y="4789440"/>
                <a:ext cx="1536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λ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1547640" y="5259240"/>
                <a:ext cx="18338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3708360" y="5300640"/>
                <a:ext cx="2244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e model works with the following constants having their own physical mea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─ shear modulus (neo-Hookean model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gle of a fibre fami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─ parameter characterizing the fibre stiffness (analogic to models  Holzapfel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, Gasser 200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 ─ parameter of dispersion of fibre directions in a family (0 ≤ κ ≤ 1/3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─ fibre stretch, needed to straighten the least wavy fibres; beyond this limit the fibres start to bear lo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─ fibre stretch, needed to straighten the most wavy fibres; beyond this limit all the fibres bear some portion of the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416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Martufi ─ cons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23-07-05T18:53:36Z</dcterms:modified>
  <cp:revision>494</cp:revision>
  <dc:subject/>
  <dc:title>Biomechanics  of smooth muscle cells</dc:title>
</cp:coreProperties>
</file>