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7CC-0519-4064-8AE8-E1E9E6C6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89A-D773-4555-92DD-6994E43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894-D2AB-430F-A8E2-66A474C7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0B4-391E-404B-9A19-C04EB3B2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E38-3914-446D-9C93-173202B6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B20-193D-40EF-BBB9-6BE667A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634-C709-40E8-A435-1B54406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FE5-6186-4F49-A6EA-C95E5B44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ACA-8444-4F0A-805D-919E088B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B90-FB1D-49CD-8C56-01473F6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D95-4CA0-4D9E-97B3-3DF5408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38-61C0-4606-AADC-78CA5A4E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BC4-EFF1-4E57-A7CB-EC65333147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Constitutive models for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hydroge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hematical formulations of constitutive models of bi-phasic hydrogels under large strains of the solid phase are similar to hyperelastic formulations.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olmes-Mow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model can be applied, for instance, for the isotropic component of articular cartilage; the strain energy density is expressed as fol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hear modulus of elastici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amé constant divided by the Pois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io??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bezrozměrný koeficient exponenciálního zpevn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4760" y="5877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mes, M. H., and Mow, V. C., 1990, "The nonlinear characteristics of soft gels and hydrated connective tissues in ultrafiltration," J Biomech, 23(11), pp. 1145-1156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9"/>
              <p:cNvSpPr txBox="1"/>
              <p:nvPr/>
            </p:nvSpPr>
            <p:spPr>
              <a:xfrm>
                <a:off x="2665440" y="2597040"/>
                <a:ext cx="2050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1403280" y="3209760"/>
                <a:ext cx="4632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8"/>
              <p:cNvSpPr txBox="1"/>
              <p:nvPr/>
            </p:nvSpPr>
            <p:spPr>
              <a:xfrm>
                <a:off x="6297480" y="3213000"/>
                <a:ext cx="10112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23-11-06T13:13:10Z</dcterms:modified>
  <cp:revision>458</cp:revision>
  <dc:subject/>
  <dc:title>Biomechanics  of smooth muscle cells</dc:title>
</cp:coreProperties>
</file>